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49616-E47A-4E74-81B0-8A93B153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9732D-A30D-469E-8D82-A978738A6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AB737-4382-4990-ABCF-FF2CA4680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0A664-5FD3-4940-AF4D-B8813829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C636-EE02-4B3D-B180-1EA7041D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CBDC-7108-4D3A-B222-02BB806E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603E-8C6B-4C85-8985-94297F760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14CA-5A62-4D81-9321-4C4474085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A2BD9-1951-4232-99BA-41E45130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FAFD0-0449-4404-9BA4-199591EE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6C21C-551E-4929-A2F6-E43FF7F7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5E1D-15FC-4BA3-BB0F-7211EF26C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05E5-FF76-4FA9-9855-219907FD9A18}"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Mobile Confidential 02/200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5048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4" name=""/>
          <p:cNvSpPr/>
          <p:nvPr/>
        </p:nvSpPr>
        <p:spPr>
          <a:xfrm>
            <a:off x="208080" y="973080"/>
            <a:ext cx="8467560" cy="483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ea typeface="文鼎中黑"/>
              </a:rPr>
              <a:t>Status - Commercial discussions</a:t>
            </a:r>
            <a:endParaRPr b="0" lang="en-US" sz="1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eiling price of 90€ agreed  (incl desktop stand and headset) for first 3 months after launch and 84€ for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3 months after launch. </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odafone will commit to a minimum volume of 150k in the period from launch to end Dec 06</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is volume commitment will remain in place as long as the product is in channels by 15</a:t>
            </a:r>
            <a:r>
              <a:rPr b="0" lang="en-GB" sz="1200" spc="-1" strike="noStrike" baseline="30000">
                <a:solidFill>
                  <a:srgbClr val="3a0e66"/>
                </a:solidFill>
                <a:latin typeface="Minion"/>
                <a:ea typeface="文鼎中黑"/>
              </a:rPr>
              <a:t>th</a:t>
            </a:r>
            <a:r>
              <a:rPr b="0" lang="en-GB" sz="1200" spc="-1" strike="noStrike">
                <a:solidFill>
                  <a:srgbClr val="3a0e66"/>
                </a:solidFill>
                <a:latin typeface="Minion"/>
                <a:ea typeface="文鼎中黑"/>
              </a:rPr>
              <a:t> October</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indicated that they are willing to invest 4.5€ million Euros in to the development of Jerry to bring down the net net price to VF opcos (NRE fund).  The NRE scenario is as follows:</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4.5€ million would directly subsidise the first 300,000 units by 15€ per unit, thus reducing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quarter price to 75€ and the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to 69€.</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4.5€ million would be paid in 3 instalments and at significant milestones during the project.  VF and BenQ have in principle agreed the following mileston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availability of B1+ sampl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test of Acceptance testing</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point of global product SW approval</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would like to enforce penalties upon late delivery of Jerry by way of non payment of NRE (without any affect on price) and reduction in volume commitment.  An agreement here has not been made.</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an option to engage BenQ in a design refresh of Jerry in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half of 2007.</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ment will be finalised by way of contract and the outcome will depend largely on Vodafone's level of confidence on T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6" name=""/>
          <p:cNvSpPr/>
          <p:nvPr/>
        </p:nvSpPr>
        <p:spPr>
          <a:xfrm>
            <a:off x="208080" y="898560"/>
            <a:ext cx="8137440" cy="533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Initial Jerry launch date was communicated for 1</a:t>
            </a:r>
            <a:r>
              <a:rPr b="0" lang="en-GB" sz="1400" spc="-1" strike="noStrike" baseline="30000">
                <a:solidFill>
                  <a:srgbClr val="3a0e66"/>
                </a:solidFill>
                <a:latin typeface="Minion"/>
                <a:ea typeface="文鼎中黑"/>
              </a:rPr>
              <a:t>st</a:t>
            </a:r>
            <a:r>
              <a:rPr b="0" lang="en-GB" sz="1400" spc="-1" strike="noStrike">
                <a:solidFill>
                  <a:srgbClr val="3a0e66"/>
                </a:solidFill>
                <a:latin typeface="Minion"/>
                <a:ea typeface="文鼎中黑"/>
              </a:rPr>
              <a:t> September 2005.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Delays have occurred to Jerry as a knock on from delays to EGold Apoxi</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roduct platform has now been swapped to Sgold lite to secure Christmas business.</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Current date for shipments from Shanghai is 28</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September.  A delivery date to opcos has not yet been given.</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Vodafone confidence is extremely low that stock will be in channel in time for Christmas business.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Risk</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success of Jerry largely depends on Price and Time to Market.</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current concerns around TTM may jeopardise efforts to reduce the price (via NRE) and achieve sales of 150k in CY 06 at the higher price point.  </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ulling out of any project would have dire consequences for the relationship with VF.</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Short Terms Action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ake steps to install VF with confidence for a mass market launch before 15</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Oct 06</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ign development agreement and secure NRE and volume commitment</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cure delivery timelin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2-09T16:21:34Z</dcterms:modified>
  <cp:revision>110</cp:revision>
  <dc:subject/>
  <dc:title>PowerPoint 簡報</dc:title>
</cp:coreProperties>
</file>